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2CE7-651E-4B75-B496-6526E649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D5CD-F68E-42BA-9F77-FB7467DC810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0817-D7C9-4671-8298-85288F3E7D0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AE28-7599-4EF6-80C9-005E211FB49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D64A-BA07-4E42-A9D1-1AFE2C258A8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CB5D-67A4-4319-946E-909B813EA535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B448-C93A-4424-B708-E00E9461AFF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BE65-6D34-4778-A847-A21326EDD0D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E6B7-6E44-413F-8293-DE86AC7BD8A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D903-17FF-4C28-BCCE-E243CE2FFCB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7686-BCA5-4F4D-B990-96890793BBC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64C5-6304-4486-A3CC-18AC3B6BE77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333B-BB42-4654-B816-F7757B1569D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A941-21D0-49A3-B00C-9D972949C41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DB3F-37B5-433B-8E60-DA5B34B2034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2C1F-71E3-42DB-9085-6DB17B37972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2D81-743F-4587-A1A3-F816DB7D97A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E44A-155E-4625-998E-B52A4516F0C5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3F9-6281-4FD4-A76C-0D60EB65EC1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1880-C99A-4354-BE73-4DCC1E14400B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76C7-55D3-407D-9589-D56800D5EAF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D8EC-F405-4F4C-AAEA-59BF8DC9E46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DB1E-8417-42E3-AA9C-546527BDBE1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9BC4-6C9A-4C99-846E-4930B838FF8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28B5-3F0B-4AB2-8512-5FE7A8D11EF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3806-2033-4C62-BF6B-0B67E335EC5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4219-EEDA-482D-83AE-25BC50C1FBDB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1A3-8A1A-4790-8F4E-0B80A50106DC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1208-D67E-4F9B-B48D-304CCF37234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92CD-AB52-4C28-8595-532B184E686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5334-79DC-47E1-BCB2-31C2EB6AAA8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DBD9-8CBB-441E-91D8-0C159895594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06EB-256F-4F38-B84E-26EE4199626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A514-B9D2-43D8-9A79-EB7B4352CF4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57CF-2C10-41A8-A8E5-01164B771C2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FB83-E8A0-4ABE-8251-1BB678A6E11B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3D4D-44BB-4D89-AC69-27A485E29B13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7363-E7E3-4F95-9850-3E2D6931B43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F97F-9AD5-43E5-8FA2-6A045DBB1E4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519A-6045-41FE-9014-4265C1945A5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3491-D369-4CD0-B55F-104CC8BC05A5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7FD3-DF2A-4CEB-B119-E0B60ACE595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8ECC-140E-4298-91F3-A4C1D4B7C37D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4E0B-5507-4DA3-9307-07FDA1ADC77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A48-3419-4449-81CF-DA622C5FA61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8412-CD6E-4100-9130-D5F68F29212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CD58-C686-43F0-A339-7258FBDBB4A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2C8-5EFF-478C-98F6-D7A75DC221F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65CF-C46E-4C49-A3E7-D4EB6A7D26CC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904D-B2EB-4B23-8BFD-B34B8C11602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9126-F4C2-4E58-82F9-D9D9C7E441F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D367-8FE2-4102-91EE-2AFA59CE7BD1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8136-EE01-4E89-86FC-A6FE6228F15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E9EA-0747-488F-BEA6-0CDB2CEBFCF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F5C0-6FC5-40B5-9FE6-1F47D7E6088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B03E-50BF-4B3E-B013-431C9869B09C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FA0A-DCA0-4D41-B189-28A541C00B6D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90E3-7D96-451F-880D-F087109AD55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5A45-FD5D-4C3F-835F-AD2968E9312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4975-8091-467D-950B-B10552CC1E9D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31E0-1900-4736-9B2B-84D69EF253B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7EEA-02F0-4155-AF7C-9C142998536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9FB1-FD1C-4D18-9353-5DF650A7D6CB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92A5-6EF4-4696-B09B-89FD1EBD5D9B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8B65-7FE8-4344-9F55-B83D7D7CCA0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0A8D-E6AF-4BDB-8797-20F8DF23EC0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2E62-3524-46F4-9C5A-C96C9A9B80D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B2DF-43C2-4868-8E01-B0B32DBE3FF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18AD-17BA-4E26-A2E8-EC92FBF93953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4EF1-B8A1-4EFC-A9D5-94DC1863A9AD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D6FB-7829-4818-8B7C-7ED4055D249C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D716-6109-42FB-8120-F71EB2A5D33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A4C2-6F6C-46D2-90EE-AC4FAEB8B335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B0C6-0611-4689-8968-420EDA9A2A6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2C62-EB1F-47FF-B1FF-3CD12EDF73D3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11DE-1C6A-43AF-96A4-234C7BAD627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87E2-860F-4559-8A19-46BED43929C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F40-2ECC-42A8-AF76-045C50D8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DC0-571F-4A2F-BD33-E65E9AA6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587-5A06-40A9-8388-D6E18322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D1A-ECC3-4DCC-B1E3-E0AC8622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9494-ABC1-40DA-972E-B7D514BC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A68B-4E4F-4542-A4B4-88514066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15AC-C2FB-4683-9F18-F08FAE99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6252-84AE-4C34-B209-126BF8E9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B456-AA50-437F-96FB-0D6C1185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5617-E91E-4574-A23A-B2F90299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07F3-40FD-4B05-8D78-E6C63A3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9C2-1ED5-48E5-8361-ED3D415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B493-6704-4EE1-9A18-CE80DB0B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6580-2C41-4408-B948-A39E173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7A64-F62C-4816-AA11-6F3ADDD9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DAB-AE0A-40D0-9F73-97346981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AD16-85B3-46A3-A7F4-A3DA60C4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2459-F3AB-4912-8911-A543EE3B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0EB0-077B-4789-9601-EDFE9E36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94B7-51EA-4AA4-B466-419EA802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B7B4-41ED-4A66-8509-22A42576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492F-C66F-4162-B94B-5489B8AA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1BB-F875-462B-BE60-1B3FCE0E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1572-CF23-4B63-AA6C-CB44C21A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6966-8D05-44B4-8880-F4545DC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69AE-74CB-4728-A76A-9DD77A2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60234-A02F-435D-ABBE-F6ED6A7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22C2-512F-4ADE-BBC2-5DC2F786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7552-96A1-46DE-A66E-F6368DDC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61F4-8155-4F96-8BAE-4EBE2B32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04523-9BD1-4609-8528-87B938FB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7B5E-AE07-44CD-ACAF-83758257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4C65-9C01-4C96-878D-F424C5FD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A26-D675-44DD-9835-BA962D4D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2DFB-8E12-443C-90C2-1D70F6FF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646F-58D9-4E07-BC46-7A62DDC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228D-A2BB-4FB6-B3BB-E7A4CDCF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A506-10CB-4861-9584-252A6DA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9F1D-2529-4BFA-A741-39E1280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22A4-E8F9-467E-8ECE-B980CA00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1B4B-E376-491C-BA70-ADF664CE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7ADA-D43F-4C6D-B343-A796490A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039E-F84D-4EBE-9605-C6C6389D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CA550-28CA-4ADF-A936-DC38C646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8CD-88D7-4E8C-A615-40FFA812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9666D-E7A6-46D0-B25E-CFAA0600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DE55-272C-42DE-9F1E-0E780D29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D985-83B2-46BD-9F93-E271CABA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6C6C0-9D8D-4F60-8CD5-5BA8CF54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E346B-4B26-4995-9D29-9EDB134A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BB281-D75D-439D-AB8E-F1E0125A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B6D9-C403-46C2-982F-944E25B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CD09-D405-460D-9DAD-9E3A232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31ED-D0F1-4E06-B6F1-C9CF81ED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F58CD-47FF-478A-9778-45CDCE74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6EC-00B3-47E3-8749-BD86D2C4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C841-DBF2-4DAA-943C-9734989C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99E-F010-4533-A6C8-FF48A76F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6B3-1933-4B7D-9784-D54317C4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DD1-BE79-4833-8E86-14915805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29D9-F98A-4DD5-B094-649F2FBBE241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D057-71A8-409D-9044-2E89B47230F6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1337-5D69-44F9-AE1B-F96785DA4239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4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BC5E-D494-4381-AF1A-92708F102461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C4D2-8B7F-4BED-A651-D2519ED96B76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7.xml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0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3.xml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6.xml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9.xm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2"/>
          <a:stretch/>
        </p:blipFill>
        <p:spPr>
          <a:xfrm>
            <a:off x="493560" y="1365120"/>
            <a:ext cx="8156880" cy="165276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3" descr=""/>
          <p:cNvPicPr/>
          <p:nvPr/>
        </p:nvPicPr>
        <p:blipFill>
          <a:blip r:embed="rId3"/>
          <a:stretch/>
        </p:blipFill>
        <p:spPr>
          <a:xfrm>
            <a:off x="493560" y="2706840"/>
            <a:ext cx="8156880" cy="68256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9"/>
          <p:cNvGrpSpPr/>
          <p:nvPr/>
        </p:nvGrpSpPr>
        <p:grpSpPr>
          <a:xfrm>
            <a:off x="5343120" y="3628440"/>
            <a:ext cx="3505680" cy="2819880"/>
            <a:chOff x="5343120" y="3628440"/>
            <a:chExt cx="3505680" cy="2819880"/>
          </a:xfrm>
        </p:grpSpPr>
        <p:pic>
          <p:nvPicPr>
            <p:cNvPr id="217" name="Rectangle 8" descr=""/>
            <p:cNvPicPr/>
            <p:nvPr/>
          </p:nvPicPr>
          <p:blipFill>
            <a:blip r:embed="rId4"/>
            <a:stretch/>
          </p:blipFill>
          <p:spPr>
            <a:xfrm rot="21599400">
              <a:off x="5343120" y="3628800"/>
              <a:ext cx="350532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" descr="No_Smoking_-_01_L.jpg"/>
            <p:cNvPicPr/>
            <p:nvPr/>
          </p:nvPicPr>
          <p:blipFill>
            <a:blip r:embed="rId5"/>
            <a:stretch/>
          </p:blipFill>
          <p:spPr>
            <a:xfrm rot="373200">
              <a:off x="5753880" y="4064760"/>
              <a:ext cx="269712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7"/>
          <p:cNvGrpSpPr/>
          <p:nvPr/>
        </p:nvGrpSpPr>
        <p:grpSpPr>
          <a:xfrm>
            <a:off x="506160" y="3394080"/>
            <a:ext cx="2210040" cy="2972160"/>
            <a:chOff x="506160" y="3394080"/>
            <a:chExt cx="2210040" cy="2972160"/>
          </a:xfrm>
        </p:grpSpPr>
        <p:pic>
          <p:nvPicPr>
            <p:cNvPr id="220" name="Rectangle 6" descr=""/>
            <p:cNvPicPr/>
            <p:nvPr/>
          </p:nvPicPr>
          <p:blipFill>
            <a:blip r:embed="rId6"/>
            <a:stretch/>
          </p:blipFill>
          <p:spPr>
            <a:xfrm rot="21599400">
              <a:off x="506160" y="3394080"/>
              <a:ext cx="220968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" descr="stop-smoking-357-784769.jpg"/>
            <p:cNvPicPr/>
            <p:nvPr/>
          </p:nvPicPr>
          <p:blipFill>
            <a:blip r:embed="rId7"/>
            <a:stretch/>
          </p:blipFill>
          <p:spPr>
            <a:xfrm rot="20898000">
              <a:off x="947880" y="3789360"/>
              <a:ext cx="1334520" cy="216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A stimulant is a drug that _________ the action of the central nervous system, heart, and other organs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Increase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Decrease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ich of the following is </a:t>
            </a:r>
            <a:r>
              <a:rPr b="1" lang="en-US" sz="5000" spc="-1" strike="noStrike" u="sng">
                <a:solidFill>
                  <a:srgbClr val="302c24"/>
                </a:solidFill>
                <a:uFillTx/>
                <a:latin typeface="Book Antiqua"/>
              </a:rPr>
              <a:t>NOT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an effect of Nicotine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Raises blood pressur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Increases heart rat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Heart disea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Strok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6" action="ppaction://hlinksldjump"/>
              </a:rPr>
              <a:t>Increased eye sigh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a carcinogen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A non-cancer causing substanc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A vitamin that smokers can take to cancel out the negative affects of smokin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A cancer causing substanc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</a:t>
            </a: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here </a:t>
            </a: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the number one cause of preventable disease and death in the U.S.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Alcohol u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Tobacco u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Sexually Transmitted Infection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the thick, sticky, dark fluid found in tobacco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arbon monoxid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Molasse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Tar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Chew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the colorless, odorless, and poisonous gas that is present in cigarett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Oxyge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Carbon Dioxid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Hydroge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Carbon Monoxid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ar and Carbon Monoxide do which of the following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Destroys cili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Damages alveoli or air sac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Destroys lung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All of the abov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does carbon monoxide do to the body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Deprives tissues and cells of oxyge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Increases risk of high blood pressur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All of the abov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ich one contains more nicotine and produces more tar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igarette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Cigar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One cigar = how many cigarett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3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5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1 pack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3 pack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How do you </a:t>
            </a: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NOT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use smokeless tobacco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Sniff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E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Held in mouth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Chewed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8 – 10 chews of smokeless tobacco = how many cigarett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6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10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1 pack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2 pack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do we call a thickened, white, leathery looking spots on the inside of the mouth that can develop into cancer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Leukemi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Leukoplaki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Lymphom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obacco use can change your brain chemistry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3428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kind of </a:t>
            </a:r>
            <a:r>
              <a:rPr b="1" lang="en-US" sz="5000" spc="-1" strike="noStrike" u="sng">
                <a:solidFill>
                  <a:srgbClr val="302c24"/>
                </a:solidFill>
                <a:uFillTx/>
                <a:latin typeface="Book Antiqua"/>
              </a:rPr>
              <a:t>substance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causes physiological or psychological dependenci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Addictive dru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Dependent dru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Illegal dru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obacco use </a:t>
            </a:r>
            <a:r>
              <a:rPr b="0" lang="en-US" sz="5000" spc="-1" strike="noStrike" u="sng">
                <a:solidFill>
                  <a:srgbClr val="302c24"/>
                </a:solidFill>
                <a:uFillTx/>
                <a:latin typeface="Book Antiqua"/>
              </a:rPr>
              <a:t>decreases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your respiration and heart rate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3504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obacco causes dulled taste buds and reduced appetite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3352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obacco use can give a person bad breath and smelly clothes, hair, and skin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962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ich of the following is </a:t>
            </a: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NOT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a long term affect of smoking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Weight los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hronic bronchiti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Emphysem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Lung cancer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oronary heart disease and strok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a good strategy for preventing tobacco use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hoosing friends wisely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Being around people who smok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rying just one cigarett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How might a person act if they are suffering from nicotine withdrawal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Lots of energy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Very irritabl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od concentration skill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od night sleep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Smoking while pregnant is perfectly fine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Smoking while pregnant can cause SIDS (Sudden Infant Death Syndrome)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negative effects can smoking have on children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ore thro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Ear infection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Lung cancer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All of the abov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Congratulations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8600" y="2285640"/>
            <a:ext cx="8146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You have completed the review game!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ontinue to review your notes prior to your Health Test!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od Luck on your Test!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74" name="Picture 4" descr="no-smoking.jpg"/>
          <p:cNvPicPr/>
          <p:nvPr/>
        </p:nvPicPr>
        <p:blipFill>
          <a:blip r:embed="rId2"/>
          <a:stretch/>
        </p:blipFill>
        <p:spPr>
          <a:xfrm>
            <a:off x="6019920" y="3809880"/>
            <a:ext cx="25066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the addictive drug found in tobacco leav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Tar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Carcinoge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Nicotin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21:46:49Z</dcterms:created>
  <dc:creator>Julia &amp; Pete</dc:creator>
  <dc:description/>
  <dc:language>en-US</dc:language>
  <cp:lastModifiedBy>Kutztown University</cp:lastModifiedBy>
  <dcterms:modified xsi:type="dcterms:W3CDTF">2009-04-13T22:40:34Z</dcterms:modified>
  <cp:revision>9</cp:revision>
  <dc:subject/>
  <dc:title>Tobacco Use</dc:title>
</cp:coreProperties>
</file>